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722-AE8B-4854-9986-624AFA67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3AC-E787-4FFF-9CCE-A2E63BB5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E9E-2D99-46C7-BF69-FC58B5CA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D55-36EE-482B-A986-164626DA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A131C-2851-408D-B1F1-F4DF9269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D6205-E894-4D5E-A238-0FF4C6E1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D2BD6-A2D3-4062-9C3E-B21F5037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03898-B327-4C52-99B2-7CAE20CB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7793E-D262-4926-B889-3919F186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00F9D-AA08-46CA-9F9B-D52C80AA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A7024-B253-4879-A5F5-1B04763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B77-26F8-4E57-B460-9B62EB7B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42D41-29A4-4A37-9A43-61A1BBEA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CEA18-4C07-414D-8DE7-2F6999B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A0E42-F60E-4365-9CA2-D6B7A0E3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F5A20-20AF-49E7-AEDC-EDF33F25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C8410-F722-440E-9061-AE9839F0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E8F-F57D-4677-8BA6-301B9FEE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A82-D5FE-473B-9DAD-2C2B3AD2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953-91AB-47E6-B76E-C524A996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FC5-8BB9-4029-B301-2B84FA54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102-30DD-4C30-979E-A9CB3CF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C88-77BF-45A0-BFD5-015F3147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8CC-A44A-4217-ACE5-1304F87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11E4-34FC-4779-A68D-0D8EF631EF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1883-9EF9-4D4E-9385-8F0036FD06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aa99"/>
                </a:solidFill>
                <a:latin typeface="Arial"/>
              </a:rPr>
              <a:t>Дрожь земли</a:t>
            </a:r>
            <a:endParaRPr b="0" lang="en-US" sz="6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aa99"/>
                </a:solidFill>
                <a:latin typeface="Arial"/>
              </a:rPr>
              <a:t>и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aa99"/>
                </a:solidFill>
                <a:latin typeface="Arial Narrow"/>
              </a:rPr>
              <a:t>Землетряс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Подтемы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Землетрясение как стихийное бедств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Виды землетряс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Прибор для регистрации землетрясений и принцип рабо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Прогноз землетряс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Правила безопасного по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Последствия землетряс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ся земля сотрясла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уч метнулась гря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трясенье земли унесло город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се оковы небес разомкнуться смог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вел разгул сотрясенья суставы                                 земл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жал он бедную землю в такие тис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то огромные скалы разбил на кус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з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vul2"/>
          <p:cNvPicPr/>
          <p:nvPr/>
        </p:nvPicPr>
        <p:blipFill>
          <a:blip r:embed="rId1"/>
          <a:stretch/>
        </p:blipFill>
        <p:spPr>
          <a:xfrm>
            <a:off x="539640" y="1484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vul3"/>
          <p:cNvPicPr/>
          <p:nvPr/>
        </p:nvPicPr>
        <p:blipFill>
          <a:blip r:embed="rId2"/>
          <a:stretch/>
        </p:blipFill>
        <p:spPr>
          <a:xfrm>
            <a:off x="539640" y="3716280"/>
            <a:ext cx="30956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Землетрясения-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ет бедствия, от которого нельзя было бы спастись. А зло распространяется необычайно широко, от него не убежишь, оно ненасытно, оно является общественным бедств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енека(4 г. до н. э.- 65 г. н. э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олебания и смещения земной поверхности, подземные толчки и удары, возникающие в результате естественных процессов или деятель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a99"/>
                </a:solidFill>
                <a:latin typeface="Arial"/>
              </a:rPr>
              <a:t>Классификация землетрясений: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ктоническ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улканическ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ва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етряс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никающие в результате ударов космических тел о зем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edff"/>
                </a:solidFill>
                <a:latin typeface="Arial"/>
              </a:rPr>
              <a:t>Очаг землетрясения - точка под землей, которая является источником землетрясения (гипоцентр). Прямо над гипоцентром на поверхности земли находится эпицентр землетрясения.</a:t>
            </a:r>
            <a:endParaRPr b="0" lang="en-US" sz="2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2052720"/>
            <a:ext cx="86518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84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роисхождение землетрясений.</a:t>
            </a:r>
            <a:br>
              <a:rPr sz="3200"/>
            </a:br>
            <a:r>
              <a:rPr b="0" lang="en-US" sz="3200" spc="-1" strike="noStrike">
                <a:solidFill>
                  <a:srgbClr val="b3ed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b3edff"/>
                </a:solidFill>
                <a:latin typeface="Arial"/>
              </a:rPr>
              <a:t>Движение тектонических плит- основная причина                          землетрясений.</a:t>
            </a: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8424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обнаружения и регистрации сейсмических волн используются специальные приборы - сейсмографы. Ежедневно сейсмографы регистрируют на Земле более тысячи землетрясений.</a:t>
            </a:r>
            <a:br>
              <a:rPr sz="2000"/>
            </a:br>
            <a:endParaRPr b="0" lang="en-US" sz="2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Поражающие факторы землетрясений: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Наиболее безопасные места в здании: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12-бальная международная сейсмическая шкала. </a:t>
            </a:r>
            <a:br>
              <a:rPr sz="2400"/>
            </a:b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(Шкала Рихтера).</a:t>
            </a:r>
            <a:br>
              <a:rPr sz="4400"/>
            </a:br>
            <a:endParaRPr b="0" lang="en-US" sz="2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лабые - 1-3 ба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Умеренные - 4 ба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Довольно сильные – 5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ильные – 6-7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Разрушительные - 8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Опустошительные – 9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Уничтожающие – 10 б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Катастрофические – 11-12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edff"/>
                </a:solidFill>
                <a:latin typeface="Arial"/>
              </a:rPr>
              <a:t>Урок для 6 класса.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11111"/>
                </a:solidFill>
                <a:latin typeface="Arial"/>
              </a:rPr>
              <a:t>Землетрясение.</a:t>
            </a: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Автор: Ларина Елена Владимировн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4 курс, филологический факульт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Сыктывкар 201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9900"/>
                </a:solidFill>
                <a:latin typeface="Arial"/>
              </a:rPr>
              <a:t>Правила безопасного поведения </a:t>
            </a:r>
            <a:br>
              <a:rPr sz="3200"/>
            </a:br>
            <a:r>
              <a:rPr b="1" i="1" lang="en-US" sz="3200" spc="-1" strike="noStrike">
                <a:solidFill>
                  <a:srgbClr val="cc9900"/>
                </a:solidFill>
                <a:latin typeface="Arial"/>
              </a:rPr>
              <a:t>во время землетрясения:</a:t>
            </a:r>
            <a:br>
              <a:rPr sz="3200"/>
            </a:b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ри первом толчке постараться немедленно покинуть здание в течение 15-2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пускаться  только по лестнице, оповещая соседей о необходимости покинуть з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Если остались в квартире, необходимо встать в дверной проем или в углу комнаты, подальше от окон, светильников, шкафов и зерк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е допускать возникновения па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Если землетрясение застигло вас в машине, нужно немедленно остановиться и не выходить из машины до окончания толч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ик ОБЖ 7 класс (под ред. Воробьев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ография 6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Данная презентация нацелена на подробное изучение землетрясения как стихийного бед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В презентации рассмотрены следующие темы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Землетрясение как стихийное бед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Виды землетрясен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Прибор для регистрации землетрясений и принцип раб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Прогноз землетряс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Правила безопасного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Последствия землетрясений.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По окончании изучения данной темы учащимся даются задания по закреплению знаний и навыков в различных форм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Предметные области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Географ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ОБ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edff"/>
                </a:solidFill>
                <a:latin typeface="Arial"/>
              </a:rPr>
              <a:t>Основополагающий вопрос: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то такое стихийное бедстви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Проблемные вопросы: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Что такое землетряс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Что такое очаг, эпицентр землетряс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Как устроен сейсмограф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Что такое шкала Рихте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Причины землетряс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Прогноз землетряс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Правила безопасного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Наиболее безопасные ме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Действия после землетряс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Представление результатов исследования: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Бук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Стенгаз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Соч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Докла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Arial"/>
              </a:rPr>
              <a:t>Творческая презентация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Продолжительность проекта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 нед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 уроков по 40 мину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edff"/>
                </a:solidFill>
                <a:latin typeface="Arial"/>
              </a:rPr>
              <a:t>Этапы проведения проекта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ыбор и формулировка тем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иск информ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амостоятельная работа учащих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щита проек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Методические задачи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Изучить причины возникновения землетрясений и их последствия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Показать необходимые меры защиты при землетряс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Рассмотреть прибор для регистрации землетрясений и принцип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Формирование психологической готовности учащихся к действиям в условиях Ч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13:01Z</dcterms:created>
  <dc:creator>Customer</dc:creator>
  <dc:description/>
  <dc:language>en-US</dc:language>
  <cp:lastModifiedBy>Customer</cp:lastModifiedBy>
  <dcterms:modified xsi:type="dcterms:W3CDTF">2010-04-13T18:45:26Z</dcterms:modified>
  <cp:revision>14</cp:revision>
  <dc:subject/>
  <dc:title>Дрожь земли</dc:title>
</cp:coreProperties>
</file>